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0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2B8-8007-444E-91BE-032DF76B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1D7-17A5-468C-8C65-A69BE4B7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DD1-266F-48F8-9825-9B2B5019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572-723A-4107-BBC9-B870201C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1F8-F540-4633-A7F6-88221551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CA6-6F9E-49C3-B327-95776C6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CB6-C67C-4EDA-939F-BDD8238F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B60-1E83-4296-8993-27E7598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E62-B210-482E-94C0-F4728B12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EA5-42AA-48E3-BD33-4D252D6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D4E-6CD5-43EE-9209-16C6005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3F8-FFEE-4FE7-A50D-B3A39D8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52E-7C0A-4317-8A91-2421D395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2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4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4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5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7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7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83" name="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9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9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0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1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3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5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6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6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7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380880"/>
          <a:ext cx="57150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216720" y="65160"/>
            <a:ext cx="21315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1640" y="1274760"/>
            <a:ext cx="4589640" cy="1843200"/>
            <a:chOff x="4481640" y="1274760"/>
            <a:chExt cx="4589640" cy="1843200"/>
          </a:xfrm>
        </p:grpSpPr>
        <p:sp>
          <p:nvSpPr>
            <p:cNvPr id="383" name=""/>
            <p:cNvSpPr/>
            <p:nvPr/>
          </p:nvSpPr>
          <p:spPr>
            <a:xfrm>
              <a:off x="4481640" y="1274760"/>
              <a:ext cx="1199880" cy="1843200"/>
            </a:xfrm>
            <a:custGeom>
              <a:avLst/>
              <a:gdLst/>
              <a:ahLst/>
              <a:rect l="l" t="t" r="r" b="b"/>
              <a:pathLst>
                <a:path w="756" h="1161">
                  <a:moveTo>
                    <a:pt x="614" y="538"/>
                  </a:moveTo>
                  <a:cubicBezTo>
                    <a:pt x="622" y="487"/>
                    <a:pt x="640" y="438"/>
                    <a:pt x="642" y="387"/>
                  </a:cubicBezTo>
                  <a:cubicBezTo>
                    <a:pt x="644" y="321"/>
                    <a:pt x="640" y="254"/>
                    <a:pt x="633" y="188"/>
                  </a:cubicBezTo>
                  <a:cubicBezTo>
                    <a:pt x="616" y="34"/>
                    <a:pt x="487" y="17"/>
                    <a:pt x="359" y="0"/>
                  </a:cubicBezTo>
                  <a:cubicBezTo>
                    <a:pt x="280" y="6"/>
                    <a:pt x="238" y="7"/>
                    <a:pt x="170" y="28"/>
                  </a:cubicBezTo>
                  <a:cubicBezTo>
                    <a:pt x="106" y="93"/>
                    <a:pt x="137" y="71"/>
                    <a:pt x="85" y="103"/>
                  </a:cubicBezTo>
                  <a:cubicBezTo>
                    <a:pt x="79" y="116"/>
                    <a:pt x="71" y="128"/>
                    <a:pt x="66" y="141"/>
                  </a:cubicBezTo>
                  <a:cubicBezTo>
                    <a:pt x="59" y="160"/>
                    <a:pt x="48" y="198"/>
                    <a:pt x="48" y="198"/>
                  </a:cubicBezTo>
                  <a:cubicBezTo>
                    <a:pt x="45" y="223"/>
                    <a:pt x="43" y="248"/>
                    <a:pt x="38" y="273"/>
                  </a:cubicBezTo>
                  <a:cubicBezTo>
                    <a:pt x="33" y="299"/>
                    <a:pt x="19" y="349"/>
                    <a:pt x="19" y="349"/>
                  </a:cubicBezTo>
                  <a:cubicBezTo>
                    <a:pt x="0" y="510"/>
                    <a:pt x="4" y="443"/>
                    <a:pt x="19" y="717"/>
                  </a:cubicBezTo>
                  <a:cubicBezTo>
                    <a:pt x="19" y="726"/>
                    <a:pt x="29" y="785"/>
                    <a:pt x="38" y="802"/>
                  </a:cubicBezTo>
                  <a:cubicBezTo>
                    <a:pt x="77" y="875"/>
                    <a:pt x="118" y="929"/>
                    <a:pt x="180" y="982"/>
                  </a:cubicBezTo>
                  <a:cubicBezTo>
                    <a:pt x="216" y="1013"/>
                    <a:pt x="236" y="1056"/>
                    <a:pt x="274" y="1086"/>
                  </a:cubicBezTo>
                  <a:cubicBezTo>
                    <a:pt x="336" y="1135"/>
                    <a:pt x="405" y="1149"/>
                    <a:pt x="482" y="1161"/>
                  </a:cubicBezTo>
                  <a:cubicBezTo>
                    <a:pt x="517" y="1158"/>
                    <a:pt x="552" y="1159"/>
                    <a:pt x="586" y="1152"/>
                  </a:cubicBezTo>
                  <a:cubicBezTo>
                    <a:pt x="640" y="1141"/>
                    <a:pt x="612" y="1134"/>
                    <a:pt x="642" y="1104"/>
                  </a:cubicBezTo>
                  <a:cubicBezTo>
                    <a:pt x="650" y="1096"/>
                    <a:pt x="662" y="1093"/>
                    <a:pt x="671" y="1086"/>
                  </a:cubicBezTo>
                  <a:cubicBezTo>
                    <a:pt x="703" y="1060"/>
                    <a:pt x="737" y="982"/>
                    <a:pt x="737" y="982"/>
                  </a:cubicBezTo>
                  <a:cubicBezTo>
                    <a:pt x="741" y="941"/>
                    <a:pt x="756" y="900"/>
                    <a:pt x="756" y="859"/>
                  </a:cubicBezTo>
                  <a:cubicBezTo>
                    <a:pt x="756" y="777"/>
                    <a:pt x="744" y="704"/>
                    <a:pt x="709" y="632"/>
                  </a:cubicBezTo>
                  <a:cubicBezTo>
                    <a:pt x="692" y="596"/>
                    <a:pt x="666" y="511"/>
                    <a:pt x="614" y="5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6680" y="1436760"/>
              <a:ext cx="3594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KEEP THESE TWO NOD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262240" y="446040"/>
            <a:ext cx="4446720" cy="2581200"/>
            <a:chOff x="2262240" y="446040"/>
            <a:chExt cx="4446720" cy="2581200"/>
          </a:xfrm>
        </p:grpSpPr>
        <p:sp>
          <p:nvSpPr>
            <p:cNvPr id="386" name=""/>
            <p:cNvSpPr/>
            <p:nvPr/>
          </p:nvSpPr>
          <p:spPr>
            <a:xfrm>
              <a:off x="2262240" y="685800"/>
              <a:ext cx="1749240" cy="2341440"/>
            </a:xfrm>
            <a:custGeom>
              <a:avLst/>
              <a:gdLst/>
              <a:ahLst/>
              <a:rect l="l" t="t" r="r" b="b"/>
              <a:pathLst>
                <a:path w="1102" h="1475">
                  <a:moveTo>
                    <a:pt x="1077" y="786"/>
                  </a:moveTo>
                  <a:cubicBezTo>
                    <a:pt x="1102" y="693"/>
                    <a:pt x="1077" y="662"/>
                    <a:pt x="992" y="635"/>
                  </a:cubicBezTo>
                  <a:cubicBezTo>
                    <a:pt x="928" y="591"/>
                    <a:pt x="958" y="604"/>
                    <a:pt x="907" y="588"/>
                  </a:cubicBezTo>
                  <a:cubicBezTo>
                    <a:pt x="851" y="531"/>
                    <a:pt x="797" y="487"/>
                    <a:pt x="737" y="437"/>
                  </a:cubicBezTo>
                  <a:cubicBezTo>
                    <a:pt x="707" y="412"/>
                    <a:pt x="695" y="383"/>
                    <a:pt x="662" y="361"/>
                  </a:cubicBezTo>
                  <a:cubicBezTo>
                    <a:pt x="643" y="307"/>
                    <a:pt x="614" y="260"/>
                    <a:pt x="567" y="229"/>
                  </a:cubicBezTo>
                  <a:cubicBezTo>
                    <a:pt x="511" y="143"/>
                    <a:pt x="502" y="141"/>
                    <a:pt x="426" y="78"/>
                  </a:cubicBezTo>
                  <a:cubicBezTo>
                    <a:pt x="389" y="47"/>
                    <a:pt x="358" y="18"/>
                    <a:pt x="312" y="2"/>
                  </a:cubicBezTo>
                  <a:cubicBezTo>
                    <a:pt x="194" y="12"/>
                    <a:pt x="201" y="0"/>
                    <a:pt x="142" y="78"/>
                  </a:cubicBezTo>
                  <a:cubicBezTo>
                    <a:pt x="121" y="146"/>
                    <a:pt x="107" y="224"/>
                    <a:pt x="76" y="286"/>
                  </a:cubicBezTo>
                  <a:cubicBezTo>
                    <a:pt x="63" y="353"/>
                    <a:pt x="41" y="419"/>
                    <a:pt x="20" y="484"/>
                  </a:cubicBezTo>
                  <a:cubicBezTo>
                    <a:pt x="0" y="673"/>
                    <a:pt x="0" y="835"/>
                    <a:pt x="10" y="1032"/>
                  </a:cubicBezTo>
                  <a:cubicBezTo>
                    <a:pt x="13" y="1091"/>
                    <a:pt x="50" y="1160"/>
                    <a:pt x="76" y="1211"/>
                  </a:cubicBezTo>
                  <a:cubicBezTo>
                    <a:pt x="91" y="1240"/>
                    <a:pt x="124" y="1296"/>
                    <a:pt x="124" y="1296"/>
                  </a:cubicBezTo>
                  <a:cubicBezTo>
                    <a:pt x="150" y="1406"/>
                    <a:pt x="239" y="1451"/>
                    <a:pt x="341" y="1475"/>
                  </a:cubicBezTo>
                  <a:cubicBezTo>
                    <a:pt x="369" y="1472"/>
                    <a:pt x="399" y="1474"/>
                    <a:pt x="426" y="1466"/>
                  </a:cubicBezTo>
                  <a:cubicBezTo>
                    <a:pt x="460" y="1456"/>
                    <a:pt x="499" y="1393"/>
                    <a:pt x="511" y="1372"/>
                  </a:cubicBezTo>
                  <a:cubicBezTo>
                    <a:pt x="568" y="1274"/>
                    <a:pt x="600" y="1164"/>
                    <a:pt x="662" y="1069"/>
                  </a:cubicBezTo>
                  <a:cubicBezTo>
                    <a:pt x="672" y="1038"/>
                    <a:pt x="709" y="984"/>
                    <a:pt x="709" y="984"/>
                  </a:cubicBezTo>
                  <a:cubicBezTo>
                    <a:pt x="725" y="935"/>
                    <a:pt x="756" y="905"/>
                    <a:pt x="803" y="890"/>
                  </a:cubicBezTo>
                  <a:cubicBezTo>
                    <a:pt x="847" y="848"/>
                    <a:pt x="876" y="835"/>
                    <a:pt x="936" y="824"/>
                  </a:cubicBezTo>
                  <a:cubicBezTo>
                    <a:pt x="988" y="834"/>
                    <a:pt x="1031" y="855"/>
                    <a:pt x="1077" y="824"/>
                  </a:cubicBezTo>
                  <a:cubicBezTo>
                    <a:pt x="1089" y="792"/>
                    <a:pt x="1094" y="803"/>
                    <a:pt x="1077" y="78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46040"/>
              <a:ext cx="3594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VERT THIS Y INTO A DELTA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1680" y="762120"/>
            <a:ext cx="8593200" cy="2612160"/>
            <a:chOff x="301680" y="762120"/>
            <a:chExt cx="8593200" cy="2612160"/>
          </a:xfrm>
        </p:grpSpPr>
        <p:grpSp>
          <p:nvGrpSpPr>
            <p:cNvPr id="389" name=""/>
            <p:cNvGrpSpPr/>
            <p:nvPr/>
          </p:nvGrpSpPr>
          <p:grpSpPr>
            <a:xfrm>
              <a:off x="2362320" y="762120"/>
              <a:ext cx="1431720" cy="1889280"/>
              <a:chOff x="2362320" y="762120"/>
              <a:chExt cx="1431720" cy="1889280"/>
            </a:xfrm>
          </p:grpSpPr>
          <p:graphicFrame>
            <p:nvGraphicFramePr>
              <p:cNvPr id="390" name=""/>
              <p:cNvGraphicFramePr/>
              <p:nvPr/>
            </p:nvGraphicFramePr>
            <p:xfrm>
              <a:off x="2895480" y="762120"/>
              <a:ext cx="898560" cy="898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95480" y="762120"/>
                        <a:ext cx="898560" cy="89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2" name=""/>
              <p:cNvGraphicFramePr/>
              <p:nvPr/>
            </p:nvGraphicFramePr>
            <p:xfrm>
              <a:off x="2895480" y="1752840"/>
              <a:ext cx="898560" cy="89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95480" y="1752840"/>
                        <a:ext cx="898560" cy="89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4" name=""/>
              <p:cNvGraphicFramePr/>
              <p:nvPr/>
            </p:nvGraphicFramePr>
            <p:xfrm>
              <a:off x="2362320" y="1295640"/>
              <a:ext cx="318960" cy="100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362320" y="1295640"/>
                        <a:ext cx="318960" cy="100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96" name=""/>
            <p:cNvSpPr/>
            <p:nvPr/>
          </p:nvSpPr>
          <p:spPr>
            <a:xfrm>
              <a:off x="301680" y="3036960"/>
              <a:ext cx="85932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WE CONVERT TO Y INTO A DELTA THERE ARE SERIES PARALLEL REDUCTION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429000"/>
                <a:ext cx="245124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2514600" y="3454560"/>
          <a:ext cx="22734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454560"/>
                    <a:ext cx="2273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048120" y="4038480"/>
          <a:ext cx="3514680" cy="19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038480"/>
                    <a:ext cx="351468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4554360" y="3886200"/>
            <a:ext cx="1541160" cy="2206440"/>
            <a:chOff x="4554360" y="3886200"/>
            <a:chExt cx="1541160" cy="2206440"/>
          </a:xfrm>
        </p:grpSpPr>
        <p:sp>
          <p:nvSpPr>
            <p:cNvPr id="403" name=""/>
            <p:cNvSpPr/>
            <p:nvPr/>
          </p:nvSpPr>
          <p:spPr>
            <a:xfrm>
              <a:off x="4554360" y="3886200"/>
              <a:ext cx="1541160" cy="1207800"/>
            </a:xfrm>
            <a:custGeom>
              <a:avLst/>
              <a:gdLst/>
              <a:ahLst/>
              <a:rect l="l" t="t" r="r" b="b"/>
              <a:pathLst>
                <a:path w="971" h="761">
                  <a:moveTo>
                    <a:pt x="602" y="727"/>
                  </a:moveTo>
                  <a:cubicBezTo>
                    <a:pt x="653" y="761"/>
                    <a:pt x="707" y="745"/>
                    <a:pt x="763" y="727"/>
                  </a:cubicBezTo>
                  <a:cubicBezTo>
                    <a:pt x="791" y="699"/>
                    <a:pt x="816" y="692"/>
                    <a:pt x="848" y="670"/>
                  </a:cubicBezTo>
                  <a:cubicBezTo>
                    <a:pt x="854" y="661"/>
                    <a:pt x="860" y="651"/>
                    <a:pt x="867" y="642"/>
                  </a:cubicBezTo>
                  <a:cubicBezTo>
                    <a:pt x="875" y="632"/>
                    <a:pt x="887" y="624"/>
                    <a:pt x="895" y="614"/>
                  </a:cubicBezTo>
                  <a:cubicBezTo>
                    <a:pt x="909" y="596"/>
                    <a:pt x="933" y="557"/>
                    <a:pt x="933" y="557"/>
                  </a:cubicBezTo>
                  <a:cubicBezTo>
                    <a:pt x="956" y="489"/>
                    <a:pt x="941" y="517"/>
                    <a:pt x="971" y="472"/>
                  </a:cubicBezTo>
                  <a:cubicBezTo>
                    <a:pt x="968" y="396"/>
                    <a:pt x="969" y="320"/>
                    <a:pt x="961" y="245"/>
                  </a:cubicBezTo>
                  <a:cubicBezTo>
                    <a:pt x="944" y="78"/>
                    <a:pt x="729" y="26"/>
                    <a:pt x="593" y="0"/>
                  </a:cubicBezTo>
                  <a:cubicBezTo>
                    <a:pt x="508" y="3"/>
                    <a:pt x="423" y="3"/>
                    <a:pt x="338" y="9"/>
                  </a:cubicBezTo>
                  <a:cubicBezTo>
                    <a:pt x="318" y="10"/>
                    <a:pt x="301" y="24"/>
                    <a:pt x="281" y="28"/>
                  </a:cubicBezTo>
                  <a:cubicBezTo>
                    <a:pt x="202" y="46"/>
                    <a:pt x="124" y="64"/>
                    <a:pt x="45" y="85"/>
                  </a:cubicBezTo>
                  <a:cubicBezTo>
                    <a:pt x="0" y="151"/>
                    <a:pt x="5" y="257"/>
                    <a:pt x="74" y="302"/>
                  </a:cubicBezTo>
                  <a:cubicBezTo>
                    <a:pt x="104" y="394"/>
                    <a:pt x="213" y="471"/>
                    <a:pt x="291" y="519"/>
                  </a:cubicBezTo>
                  <a:cubicBezTo>
                    <a:pt x="302" y="526"/>
                    <a:pt x="309" y="539"/>
                    <a:pt x="319" y="548"/>
                  </a:cubicBezTo>
                  <a:cubicBezTo>
                    <a:pt x="364" y="586"/>
                    <a:pt x="329" y="549"/>
                    <a:pt x="376" y="576"/>
                  </a:cubicBezTo>
                  <a:cubicBezTo>
                    <a:pt x="439" y="612"/>
                    <a:pt x="455" y="625"/>
                    <a:pt x="527" y="642"/>
                  </a:cubicBezTo>
                  <a:cubicBezTo>
                    <a:pt x="588" y="683"/>
                    <a:pt x="575" y="643"/>
                    <a:pt x="602" y="72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03320" y="4905360"/>
              <a:ext cx="1368360" cy="1187280"/>
            </a:xfrm>
            <a:custGeom>
              <a:avLst/>
              <a:gdLst/>
              <a:ahLst/>
              <a:rect l="l" t="t" r="r" b="b"/>
              <a:pathLst>
                <a:path w="862" h="748">
                  <a:moveTo>
                    <a:pt x="14" y="453"/>
                  </a:moveTo>
                  <a:cubicBezTo>
                    <a:pt x="0" y="498"/>
                    <a:pt x="1" y="597"/>
                    <a:pt x="43" y="633"/>
                  </a:cubicBezTo>
                  <a:cubicBezTo>
                    <a:pt x="54" y="642"/>
                    <a:pt x="67" y="647"/>
                    <a:pt x="80" y="652"/>
                  </a:cubicBezTo>
                  <a:cubicBezTo>
                    <a:pt x="99" y="659"/>
                    <a:pt x="137" y="670"/>
                    <a:pt x="137" y="670"/>
                  </a:cubicBezTo>
                  <a:cubicBezTo>
                    <a:pt x="252" y="748"/>
                    <a:pt x="466" y="673"/>
                    <a:pt x="600" y="652"/>
                  </a:cubicBezTo>
                  <a:cubicBezTo>
                    <a:pt x="701" y="618"/>
                    <a:pt x="620" y="654"/>
                    <a:pt x="685" y="604"/>
                  </a:cubicBezTo>
                  <a:cubicBezTo>
                    <a:pt x="703" y="590"/>
                    <a:pt x="741" y="567"/>
                    <a:pt x="741" y="567"/>
                  </a:cubicBezTo>
                  <a:cubicBezTo>
                    <a:pt x="747" y="557"/>
                    <a:pt x="753" y="547"/>
                    <a:pt x="760" y="538"/>
                  </a:cubicBezTo>
                  <a:cubicBezTo>
                    <a:pt x="769" y="528"/>
                    <a:pt x="781" y="521"/>
                    <a:pt x="789" y="510"/>
                  </a:cubicBezTo>
                  <a:cubicBezTo>
                    <a:pt x="808" y="483"/>
                    <a:pt x="823" y="386"/>
                    <a:pt x="836" y="349"/>
                  </a:cubicBezTo>
                  <a:cubicBezTo>
                    <a:pt x="831" y="236"/>
                    <a:pt x="862" y="76"/>
                    <a:pt x="751" y="0"/>
                  </a:cubicBezTo>
                  <a:cubicBezTo>
                    <a:pt x="619" y="8"/>
                    <a:pt x="516" y="26"/>
                    <a:pt x="392" y="66"/>
                  </a:cubicBezTo>
                  <a:cubicBezTo>
                    <a:pt x="361" y="87"/>
                    <a:pt x="329" y="102"/>
                    <a:pt x="298" y="123"/>
                  </a:cubicBezTo>
                  <a:cubicBezTo>
                    <a:pt x="292" y="132"/>
                    <a:pt x="288" y="144"/>
                    <a:pt x="279" y="151"/>
                  </a:cubicBezTo>
                  <a:cubicBezTo>
                    <a:pt x="262" y="166"/>
                    <a:pt x="222" y="189"/>
                    <a:pt x="222" y="189"/>
                  </a:cubicBezTo>
                  <a:cubicBezTo>
                    <a:pt x="188" y="239"/>
                    <a:pt x="211" y="209"/>
                    <a:pt x="146" y="274"/>
                  </a:cubicBezTo>
                  <a:cubicBezTo>
                    <a:pt x="118" y="302"/>
                    <a:pt x="94" y="353"/>
                    <a:pt x="71" y="387"/>
                  </a:cubicBezTo>
                  <a:cubicBezTo>
                    <a:pt x="65" y="395"/>
                    <a:pt x="67" y="407"/>
                    <a:pt x="61" y="415"/>
                  </a:cubicBezTo>
                  <a:cubicBezTo>
                    <a:pt x="48" y="430"/>
                    <a:pt x="30" y="440"/>
                    <a:pt x="14" y="4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922440" y="3875040"/>
            <a:ext cx="20095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I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57200" y="685800"/>
          <a:ext cx="406728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0672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867560" y="522360"/>
            <a:ext cx="396036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AFTER PARALLEL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83808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79840" y="1600200"/>
          <a:ext cx="21564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9840" y="1600200"/>
                    <a:ext cx="215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952880" y="1828800"/>
          <a:ext cx="25275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828800"/>
                    <a:ext cx="2527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743200" y="2895480"/>
          <a:ext cx="29592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95480"/>
                    <a:ext cx="2959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"/>
          <p:cNvGrpSpPr/>
          <p:nvPr/>
        </p:nvGrpSpPr>
        <p:grpSpPr>
          <a:xfrm>
            <a:off x="6031440" y="1508040"/>
            <a:ext cx="3106800" cy="2287800"/>
            <a:chOff x="6031440" y="1508040"/>
            <a:chExt cx="3106800" cy="2287800"/>
          </a:xfrm>
        </p:grpSpPr>
        <p:sp>
          <p:nvSpPr>
            <p:cNvPr id="420" name=""/>
            <p:cNvSpPr/>
            <p:nvPr/>
          </p:nvSpPr>
          <p:spPr>
            <a:xfrm>
              <a:off x="6031440" y="2971800"/>
              <a:ext cx="3106800" cy="82404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ICE THAT BY KEE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FRACTION WE PRESE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ULL NUMERICAL ACCUR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0320" y="1508040"/>
              <a:ext cx="1325520" cy="1479600"/>
            </a:xfrm>
            <a:custGeom>
              <a:avLst/>
              <a:gdLst/>
              <a:ahLst/>
              <a:rect l="l" t="t" r="r" b="b"/>
              <a:pathLst>
                <a:path w="835" h="932">
                  <a:moveTo>
                    <a:pt x="629" y="932"/>
                  </a:moveTo>
                  <a:cubicBezTo>
                    <a:pt x="696" y="865"/>
                    <a:pt x="734" y="830"/>
                    <a:pt x="764" y="740"/>
                  </a:cubicBezTo>
                  <a:cubicBezTo>
                    <a:pt x="778" y="698"/>
                    <a:pt x="812" y="615"/>
                    <a:pt x="812" y="615"/>
                  </a:cubicBezTo>
                  <a:cubicBezTo>
                    <a:pt x="835" y="422"/>
                    <a:pt x="801" y="290"/>
                    <a:pt x="668" y="154"/>
                  </a:cubicBezTo>
                  <a:cubicBezTo>
                    <a:pt x="619" y="104"/>
                    <a:pt x="679" y="126"/>
                    <a:pt x="620" y="96"/>
                  </a:cubicBezTo>
                  <a:cubicBezTo>
                    <a:pt x="522" y="46"/>
                    <a:pt x="411" y="22"/>
                    <a:pt x="303" y="0"/>
                  </a:cubicBezTo>
                  <a:cubicBezTo>
                    <a:pt x="277" y="3"/>
                    <a:pt x="251" y="2"/>
                    <a:pt x="226" y="10"/>
                  </a:cubicBezTo>
                  <a:cubicBezTo>
                    <a:pt x="211" y="15"/>
                    <a:pt x="201" y="30"/>
                    <a:pt x="188" y="39"/>
                  </a:cubicBezTo>
                  <a:cubicBezTo>
                    <a:pt x="65" y="127"/>
                    <a:pt x="34" y="282"/>
                    <a:pt x="5" y="423"/>
                  </a:cubicBezTo>
                  <a:cubicBezTo>
                    <a:pt x="12" y="536"/>
                    <a:pt x="0" y="600"/>
                    <a:pt x="63" y="682"/>
                  </a:cubicBezTo>
                  <a:cubicBezTo>
                    <a:pt x="81" y="777"/>
                    <a:pt x="58" y="691"/>
                    <a:pt x="92" y="759"/>
                  </a:cubicBezTo>
                  <a:cubicBezTo>
                    <a:pt x="95" y="765"/>
                    <a:pt x="106" y="810"/>
                    <a:pt x="111" y="816"/>
                  </a:cubicBezTo>
                  <a:cubicBezTo>
                    <a:pt x="131" y="841"/>
                    <a:pt x="160" y="858"/>
                    <a:pt x="178" y="884"/>
                  </a:cubicBezTo>
                  <a:cubicBezTo>
                    <a:pt x="184" y="893"/>
                    <a:pt x="188" y="905"/>
                    <a:pt x="197" y="912"/>
                  </a:cubicBezTo>
                  <a:cubicBezTo>
                    <a:pt x="205" y="918"/>
                    <a:pt x="217" y="917"/>
                    <a:pt x="226" y="922"/>
                  </a:cubicBezTo>
                  <a:cubicBezTo>
                    <a:pt x="230" y="924"/>
                    <a:pt x="233" y="929"/>
                    <a:pt x="236" y="932"/>
                  </a:cubicBezTo>
                </a:path>
              </a:pathLst>
            </a:custGeom>
            <a:noFill/>
            <a:ln w="255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424" name="" descr=""/>
            <p:cNvPicPr/>
            <p:nvPr/>
          </p:nvPicPr>
          <p:blipFill>
            <a:blip r:embed="rId9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9360"/>
          <a:ext cx="83818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360"/>
                    <a:ext cx="83818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0" y="4952880"/>
          <a:ext cx="479124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2880"/>
                    <a:ext cx="479124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819520" y="4800600"/>
            <a:ext cx="190476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86000" y="6324480"/>
                <a:ext cx="1359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676520" y="4572000"/>
            <a:ext cx="190476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4572000"/>
                <a:ext cx="1168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320" y="5943600"/>
                <a:ext cx="12952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3200400" y="4876920"/>
            <a:ext cx="1371600" cy="1600200"/>
            <a:chOff x="3200400" y="4876920"/>
            <a:chExt cx="1371600" cy="1600200"/>
          </a:xfrm>
        </p:grpSpPr>
        <p:sp>
          <p:nvSpPr>
            <p:cNvPr id="97" name=""/>
            <p:cNvSpPr/>
            <p:nvPr/>
          </p:nvSpPr>
          <p:spPr>
            <a:xfrm>
              <a:off x="3200400" y="48769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768" y="0"/>
                  </a:moveTo>
                  <a:lnTo>
                    <a:pt x="0" y="48"/>
                  </a:lnTo>
                  <a:lnTo>
                    <a:pt x="48" y="336"/>
                  </a:lnTo>
                  <a:lnTo>
                    <a:pt x="480" y="336"/>
                  </a:lnTo>
                  <a:lnTo>
                    <a:pt x="480" y="1008"/>
                  </a:lnTo>
                  <a:lnTo>
                    <a:pt x="864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4191120" y="4952880"/>
            <a:ext cx="355320" cy="20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91120" y="4952880"/>
                      <a:ext cx="355320" cy="2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76236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3228840" y="6548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475960" y="5018040"/>
            <a:ext cx="3528360" cy="1830600"/>
            <a:chOff x="5475960" y="5018040"/>
            <a:chExt cx="3528360" cy="1830600"/>
          </a:xfrm>
        </p:grpSpPr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827244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475960" y="5018040"/>
              <a:ext cx="3106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things get confusing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7560" y="979560"/>
            <a:ext cx="3838320" cy="8240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the drawing gets confusing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raw the reduced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tart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80880" y="141120"/>
            <a:ext cx="32288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a prope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7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7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7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8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8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9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4-07-25T15:08:49Z</dcterms:modified>
  <cp:revision>24</cp:revision>
  <dc:subject/>
  <dc:title>Series/Parallel Resistor Reduction</dc:title>
</cp:coreProperties>
</file>